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074-5F2A-4A21-8355-71D71812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9B1-08C5-43A8-88E4-6EC52FEF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FDB-C7E9-44B5-BDE9-581C8ADD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B22-FEAC-4823-A766-8F5E6111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047-9650-4CE9-8952-7D3CD82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E3E-870E-4000-A2B0-87D4B346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E5A-DA40-4405-9D08-1853B8C5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1EB-390C-4BAA-ADA7-3986D094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3D7-B1C1-462C-97B8-45941B62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1C8-FDD0-44E6-BAD1-0F5132A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70A-F324-4D29-94E3-0A2E6E2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DF6-5726-4179-B1F7-58A1B263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7B75-3E1F-4195-853D-630652FDF7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92480" y="53928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ка-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20160" y="48164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г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5280" y="54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6160" y="48164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л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42480" y="5445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41720" y="5445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ы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7000" y="48164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рк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3800" y="544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илл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8320" y="544500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лый 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1840" y="4797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6560" y="48164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0328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03280" y="479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94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16920" y="48164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441760" y="54450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407600" y="47973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420880" y="48164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439960" y="54450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422680" y="4816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10120" y="54450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403640" y="4797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215680" y="5445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262160" y="544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25568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21964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258920" y="54450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258920" y="4797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65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225760" y="54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263960" y="5445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26396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09320" y="4816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2160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440" y="5445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02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6520" y="48164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и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43560" y="54450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анис Мориссе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43520" y="544500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шли Симп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7960" y="48164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080" y="5445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в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7040" y="54450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мы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12:27Z</dcterms:modified>
  <cp:revision>79</cp:revision>
  <dc:subject/>
  <dc:title>Folie 1</dc:title>
</cp:coreProperties>
</file>